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8AF31-705D-4316-8110-DF830E4CB2A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AC8CE-6033-4340-8F93-645E63055D57}"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7ECFF-0FBE-4A23-B837-642714488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9F8F5-DB1B-4398-B415-ECD439B87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C2175-A6DC-4842-B2B6-B9A0E5B9D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4A67A-2B1D-46DF-B156-B8342607A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961823-5B60-4B52-BF20-B283BF8953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F5875-09FA-4FFD-87A1-4D75FD09F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30757-57DC-4A5F-B040-091F06573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F5A28-4F76-4FDD-82FC-3FF4A54AF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DC665-D27C-457C-A236-07A3B7A00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587ED-13D1-4296-8475-BD779BF79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280EC-709F-4738-BB17-7FFC0A18F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647AE-AA74-45B8-BA4D-EE7DE4ED6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70CB4-653B-411F-B79D-AF5492F6E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7759A-7BFB-4E77-911D-74D13AFB6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558CE-2EAD-4113-B902-A17F33F5F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DBE7BD-7FC2-443B-92D6-98378BF26B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3AF1EC-3400-4FE8-BC07-0ACD370681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C63D0-6ADF-425C-8DE1-88D8FAAA8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7445C-F860-4F1E-9B08-02A8209CA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FE31E-C95E-4704-B779-FB16B2380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0D1AE-8A0C-40E1-8CFB-F169D2A47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AD5D2-A434-49D4-9500-F7550168B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704EA-7026-49FC-9A22-7E61CF531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5E384-D9D1-47E5-9DBD-08485F0742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66931-4609-424D-9F0B-06E24383BABA}"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77D8E-FDCB-4BBB-8121-33E2879E1FDA}"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bite.ca/bitedaily/wp-content/uploads/2010/09/gattaca.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gat"/>
          <p:cNvPicPr/>
          <p:nvPr/>
        </p:nvPicPr>
        <p:blipFill>
          <a:blip r:embed="rId1"/>
          <a:stretch/>
        </p:blipFill>
        <p:spPr>
          <a:xfrm>
            <a:off x="826920" y="692280"/>
            <a:ext cx="7345440" cy="2319120"/>
          </a:xfrm>
          <a:prstGeom prst="rect">
            <a:avLst/>
          </a:prstGeom>
          <a:ln w="0">
            <a:noFill/>
          </a:ln>
        </p:spPr>
      </p:pic>
      <p:sp>
        <p:nvSpPr>
          <p:cNvPr id="106" name="TextBox 5"/>
          <p:cNvSpPr/>
          <p:nvPr/>
        </p:nvSpPr>
        <p:spPr>
          <a:xfrm>
            <a:off x="3132000" y="5084640"/>
            <a:ext cx="5688000" cy="241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0" spc="-1" strike="noStrike">
                <a:solidFill>
                  <a:srgbClr val="ffffff"/>
                </a:solidFill>
                <a:latin typeface="Abadi MT Condensed Light"/>
              </a:rPr>
              <a:t>an </a:t>
            </a:r>
            <a:r>
              <a:rPr b="0" lang="en-AU" sz="7200" spc="-1" strike="noStrike">
                <a:solidFill>
                  <a:srgbClr val="ffffff"/>
                </a:solidFill>
                <a:latin typeface="Abadi MT Condensed Light"/>
              </a:rPr>
              <a:t>introduction</a:t>
            </a:r>
            <a:endParaRPr b="0" lang="en-US" sz="7200" spc="-1" strike="noStrike">
              <a:solidFill>
                <a:srgbClr val="ffffff"/>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Box 3"/>
          <p:cNvSpPr/>
          <p:nvPr/>
        </p:nvSpPr>
        <p:spPr>
          <a:xfrm>
            <a:off x="755640" y="3724200"/>
            <a:ext cx="8028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Gattaca is a perfect world, but only perfect for those who are genetically gift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he world created by Niccol is really a dystopian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Arial"/>
              </a:rPr>
              <a:t>1. In what way is Gattaca a dystop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Arial"/>
              </a:rPr>
              <a:t>2. What other examples of dystopian fiction can you think o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0" name="Picture 2" descr="http://i77.photobucket.com/albums/j60/bluinkalchemist/gattaca2-1.jpg"/>
          <p:cNvPicPr/>
          <p:nvPr/>
        </p:nvPicPr>
        <p:blipFill>
          <a:blip r:embed="rId1"/>
          <a:stretch/>
        </p:blipFill>
        <p:spPr>
          <a:xfrm>
            <a:off x="5137200" y="404640"/>
            <a:ext cx="3770280" cy="2519640"/>
          </a:xfrm>
          <a:prstGeom prst="rect">
            <a:avLst/>
          </a:prstGeom>
          <a:ln w="0">
            <a:noFill/>
          </a:ln>
        </p:spPr>
      </p:pic>
      <p:sp>
        <p:nvSpPr>
          <p:cNvPr id="131" name="Rectangle 5"/>
          <p:cNvSpPr/>
          <p:nvPr/>
        </p:nvSpPr>
        <p:spPr>
          <a:xfrm>
            <a:off x="611280" y="404640"/>
            <a:ext cx="4032000" cy="356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Kahootz Monster"/>
              </a:rPr>
              <a:t>“</a:t>
            </a:r>
            <a:r>
              <a:rPr b="0" lang="en-AU" sz="2800" spc="-1" strike="noStrike">
                <a:solidFill>
                  <a:srgbClr val="ffffff"/>
                </a:solidFill>
                <a:latin typeface="Kahootz Monster"/>
              </a:rPr>
              <a:t>nothing that would prohibit someone working in the field of law enforcement, for example …but now there are ‘enough of the right kind of people.”</a:t>
            </a:r>
            <a:endParaRPr b="0" lang="en-US" sz="2800" spc="-1" strike="noStrike">
              <a:solidFill>
                <a:srgbClr val="ffffff"/>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Box 3"/>
          <p:cNvSpPr/>
          <p:nvPr/>
        </p:nvSpPr>
        <p:spPr>
          <a:xfrm>
            <a:off x="468360" y="3429000"/>
            <a:ext cx="8207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In proving that genes aren’t the sole determinate of people’s lives, Vincent inspired and changed other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Eugene’s heroic climb up the helix stairway was inspired by the courage and tenacity shown by Vincent in his determination to achieve his go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r Lamar’s comment at the film’s end shows how Vincent’s battle has inspired Lamar’s son to defy his genetic expecta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Even Irene loses some of her passivity and begins to hope</a:t>
            </a:r>
            <a:endParaRPr b="0" lang="en-US" sz="1800" spc="-1" strike="noStrike">
              <a:solidFill>
                <a:srgbClr val="ffffff"/>
              </a:solidFill>
              <a:latin typeface="Arial"/>
            </a:endParaRPr>
          </a:p>
        </p:txBody>
      </p:sp>
      <p:pic>
        <p:nvPicPr>
          <p:cNvPr id="133" name="Picture 2" descr="http://www.themovietrust.com/wp-content/uploads/2010/06/ethan-hawke-gattaca_1162861017.jpg"/>
          <p:cNvPicPr/>
          <p:nvPr/>
        </p:nvPicPr>
        <p:blipFill>
          <a:blip r:embed="rId1"/>
          <a:stretch/>
        </p:blipFill>
        <p:spPr>
          <a:xfrm>
            <a:off x="5257800" y="260280"/>
            <a:ext cx="3672000" cy="2448000"/>
          </a:xfrm>
          <a:prstGeom prst="rect">
            <a:avLst/>
          </a:prstGeom>
          <a:ln w="0">
            <a:noFill/>
          </a:ln>
        </p:spPr>
      </p:pic>
      <p:sp>
        <p:nvSpPr>
          <p:cNvPr id="134" name="Rectangle 5"/>
          <p:cNvSpPr/>
          <p:nvPr/>
        </p:nvSpPr>
        <p:spPr>
          <a:xfrm>
            <a:off x="395280" y="333360"/>
            <a:ext cx="4572000" cy="31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Kahootz Monster"/>
              </a:rPr>
              <a:t>‘</a:t>
            </a:r>
            <a:r>
              <a:rPr b="0" lang="en-AU" sz="3200" spc="-1" strike="noStrike">
                <a:solidFill>
                  <a:srgbClr val="ffffff"/>
                </a:solidFill>
                <a:latin typeface="Kahootz Monster"/>
              </a:rPr>
              <a:t>He’s a big fan of yours…Unfortunately my son is not all that they promised. But then, who knows what he could do?’</a:t>
            </a:r>
            <a:endParaRPr b="0" lang="en-US" sz="3200" spc="-1" strike="noStrike">
              <a:solidFill>
                <a:srgbClr val="ffffff"/>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3"/>
          <p:cNvSpPr/>
          <p:nvPr/>
        </p:nvSpPr>
        <p:spPr>
          <a:xfrm>
            <a:off x="395280" y="40464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ffffff"/>
                </a:solidFill>
                <a:latin typeface="Kahootz Monster"/>
              </a:rPr>
              <a:t>Lasting Message?</a:t>
            </a:r>
            <a:endParaRPr b="0" lang="en-US" sz="7200" spc="-1" strike="noStrike">
              <a:solidFill>
                <a:srgbClr val="ffffff"/>
              </a:solidFill>
              <a:latin typeface="Arial"/>
            </a:endParaRPr>
          </a:p>
        </p:txBody>
      </p:sp>
      <p:sp>
        <p:nvSpPr>
          <p:cNvPr id="136" name="TextBox 4"/>
          <p:cNvSpPr/>
          <p:nvPr/>
        </p:nvSpPr>
        <p:spPr>
          <a:xfrm>
            <a:off x="468360" y="2060640"/>
            <a:ext cx="82072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 What message should we heed about Gattaca’s representation of eugenic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 What does it mean to be huma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3. What factors determine our success and happiness in this worl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4. When is rebellion justified? When it is ok to rebuke the systems and organisations that govern us?</a:t>
            </a:r>
            <a:endParaRPr b="0" lang="en-US" sz="2400" spc="-1" strike="noStrike">
              <a:solidFill>
                <a:srgbClr val="ffffff"/>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Box 4"/>
          <p:cNvSpPr/>
          <p:nvPr/>
        </p:nvSpPr>
        <p:spPr>
          <a:xfrm>
            <a:off x="539640" y="2349360"/>
            <a:ext cx="7993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irector Andrew Niccol said of the fil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I would hate for anyone to look at my film and think it is advocating that you never tamper with genes, because there have been and will be many positive things to come out of this kind of science in terms of curing diseases. But the problem is that blurred line between health and enhancement. How far do you go? Do you consider short-sightedness a disease? Premature balding? Crooked teeth? Where do you draw the line?" (Andrew Nicco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Arial"/>
              </a:rPr>
              <a:t>At what point does genetic engineering cross a line? What are your though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Arial"/>
              </a:rPr>
              <a:t>Do you think a line is drawn in Gattaca?</a:t>
            </a:r>
            <a:endParaRPr b="0" lang="en-US" sz="1800" spc="-1" strike="noStrike">
              <a:solidFill>
                <a:srgbClr val="ffffff"/>
              </a:solidFill>
              <a:latin typeface="Arial"/>
            </a:endParaRPr>
          </a:p>
        </p:txBody>
      </p:sp>
      <p:pic>
        <p:nvPicPr>
          <p:cNvPr id="108" name="Picture 5" descr="http://upload.wikimedia.org/wikipedia/en/thumb/d/d0/Marin_Civic_Center_interior.jpg/220px-Marin_Civic_Center_interior.jpg"/>
          <p:cNvPicPr/>
          <p:nvPr/>
        </p:nvPicPr>
        <p:blipFill>
          <a:blip r:embed="rId1"/>
          <a:stretch/>
        </p:blipFill>
        <p:spPr>
          <a:xfrm>
            <a:off x="5219640" y="404640"/>
            <a:ext cx="3240000" cy="1825920"/>
          </a:xfrm>
          <a:prstGeom prst="rect">
            <a:avLst/>
          </a:prstGeom>
          <a:ln w="0">
            <a:noFill/>
          </a:ln>
        </p:spPr>
      </p:pic>
      <p:sp>
        <p:nvSpPr>
          <p:cNvPr id="109" name="TextBox 6"/>
          <p:cNvSpPr/>
          <p:nvPr/>
        </p:nvSpPr>
        <p:spPr>
          <a:xfrm>
            <a:off x="468360" y="404640"/>
            <a:ext cx="4319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Gattaca is a world in which the pace of scientific discovery has been left unchecked by moralist and ethical deba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Importantly the film does not condemn science as evi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3"/>
          <p:cNvSpPr/>
          <p:nvPr/>
        </p:nvSpPr>
        <p:spPr>
          <a:xfrm>
            <a:off x="755640" y="2421000"/>
            <a:ext cx="7777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In Gattaca reproductive technologies have replaced traditional methods of conception and birt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In Gattaca people are conceived through genetic manipulation. Artificial insemination is used to screen embryos for genetic defects and ensure that the best possible gene composition is achiev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1" name="Picture 2" descr="http://www.dvdbeaver.com/film2/DVDReviews39/gattaca%20brd/large/lg%20%20%20large%20gattaca%20%20snapshot20080708102915.jpg"/>
          <p:cNvPicPr/>
          <p:nvPr/>
        </p:nvPicPr>
        <p:blipFill>
          <a:blip r:embed="rId1"/>
          <a:stretch/>
        </p:blipFill>
        <p:spPr>
          <a:xfrm>
            <a:off x="4716360" y="333360"/>
            <a:ext cx="4043520" cy="2273400"/>
          </a:xfrm>
          <a:prstGeom prst="rect">
            <a:avLst/>
          </a:prstGeom>
          <a:ln w="0">
            <a:noFill/>
          </a:ln>
        </p:spPr>
      </p:pic>
      <p:sp>
        <p:nvSpPr>
          <p:cNvPr id="112" name="TextBox 6"/>
          <p:cNvSpPr/>
          <p:nvPr/>
        </p:nvSpPr>
        <p:spPr>
          <a:xfrm>
            <a:off x="611280" y="549360"/>
            <a:ext cx="38894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Kahootz Monster"/>
              </a:rPr>
              <a:t>‘</a:t>
            </a:r>
            <a:r>
              <a:rPr b="0" lang="en-AU" sz="3200" spc="-1" strike="noStrike">
                <a:solidFill>
                  <a:srgbClr val="ffffff"/>
                </a:solidFill>
                <a:latin typeface="Kahootz Monster"/>
              </a:rPr>
              <a:t>Ten fingers and ten toes, that’s all that matters, Not now.’</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5"/>
          <p:cNvSpPr/>
          <p:nvPr/>
        </p:nvSpPr>
        <p:spPr>
          <a:xfrm>
            <a:off x="684360" y="2205000"/>
            <a:ext cx="78483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hose persons born a ‘God-birth’ whose parents left their destinies up to ‘faith’ are classified as ‘invalid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Although discrimination is prohibited by law, invalids are rendered second class citize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Invalid Vincent is afforded access to menial jobs and denied the opportunity to rise above his 30.2 year life expectancy predicted at birt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Arial"/>
              </a:rPr>
              <a:t>1. What does this classification system evok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Arial"/>
              </a:rPr>
              <a:t>2. What other instances throughout history can you cite when discrimination has occurred in ways which subvert individuals’ liberti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4" name="Picture 5" descr="http://www.knowthemovies.com/wp-content/uploads/gattaca-movie-still-5.jpg"/>
          <p:cNvPicPr/>
          <p:nvPr/>
        </p:nvPicPr>
        <p:blipFill>
          <a:blip r:embed="rId1"/>
          <a:stretch/>
        </p:blipFill>
        <p:spPr>
          <a:xfrm>
            <a:off x="4211640" y="476280"/>
            <a:ext cx="4605480" cy="1944720"/>
          </a:xfrm>
          <a:prstGeom prst="rect">
            <a:avLst/>
          </a:prstGeom>
          <a:ln w="0">
            <a:noFill/>
          </a:ln>
        </p:spPr>
      </p:pic>
      <p:sp>
        <p:nvSpPr>
          <p:cNvPr id="115" name="Rectangle 7"/>
          <p:cNvSpPr/>
          <p:nvPr/>
        </p:nvSpPr>
        <p:spPr>
          <a:xfrm>
            <a:off x="250920" y="476280"/>
            <a:ext cx="37447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Kahootz Monster"/>
              </a:rPr>
              <a:t>‘</a:t>
            </a:r>
            <a:r>
              <a:rPr b="0" lang="en-AU" sz="3200" spc="-1" strike="noStrike">
                <a:solidFill>
                  <a:srgbClr val="ffffff"/>
                </a:solidFill>
                <a:latin typeface="Kahootz Monster"/>
              </a:rPr>
              <a:t>We now have discrimination down to a science’.</a:t>
            </a:r>
            <a:endParaRPr b="0" lang="en-US" sz="3200" spc="-1" strike="noStrike">
              <a:solidFill>
                <a:srgbClr val="ffffff"/>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Box 3"/>
          <p:cNvSpPr/>
          <p:nvPr/>
        </p:nvSpPr>
        <p:spPr>
          <a:xfrm>
            <a:off x="395280" y="3068640"/>
            <a:ext cx="85694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Gattaca ultimately rejects the genetic determinism which is at the heart of how the society is organis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In Gattaca we see that chance and other unknown factors play a role in our development as a child and success as an adul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Arial"/>
              </a:rPr>
              <a:t>1. What things ensure Vincent’s succe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Arial"/>
              </a:rPr>
              <a:t>2. If it is not Vincent’s genetic build that makes him successful then what does?</a:t>
            </a:r>
            <a:endParaRPr b="0" lang="en-US" sz="1800" spc="-1" strike="noStrike">
              <a:solidFill>
                <a:srgbClr val="ffffff"/>
              </a:solidFill>
              <a:latin typeface="Arial"/>
            </a:endParaRPr>
          </a:p>
        </p:txBody>
      </p:sp>
      <p:pic>
        <p:nvPicPr>
          <p:cNvPr id="117" name="Picture 2" descr="http://3.bp.blogspot.com/_SH77RTXoKK4/TIZngMCWzeI/AAAAAAAADs8/3nFbqOP29Z8/s1600/gattaca.jpg"/>
          <p:cNvPicPr/>
          <p:nvPr/>
        </p:nvPicPr>
        <p:blipFill>
          <a:blip r:embed="rId1"/>
          <a:stretch/>
        </p:blipFill>
        <p:spPr>
          <a:xfrm>
            <a:off x="4933800" y="404640"/>
            <a:ext cx="3780000" cy="2519640"/>
          </a:xfrm>
          <a:prstGeom prst="rect">
            <a:avLst/>
          </a:prstGeom>
          <a:ln w="0">
            <a:noFill/>
          </a:ln>
        </p:spPr>
      </p:pic>
      <p:sp>
        <p:nvSpPr>
          <p:cNvPr id="118" name="Rectangle 5"/>
          <p:cNvSpPr/>
          <p:nvPr/>
        </p:nvSpPr>
        <p:spPr>
          <a:xfrm>
            <a:off x="611280" y="404640"/>
            <a:ext cx="41050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Kahootz Monster"/>
              </a:rPr>
              <a:t>“</a:t>
            </a:r>
            <a:r>
              <a:rPr b="0" lang="en-AU" sz="4000" spc="-1" strike="noStrike">
                <a:solidFill>
                  <a:srgbClr val="ffffff"/>
                </a:solidFill>
                <a:latin typeface="Kahootz Monster"/>
              </a:rPr>
              <a:t>There is no gene for the human spirit”</a:t>
            </a:r>
            <a:endParaRPr b="0" lang="en-US" sz="4000" spc="-1" strike="noStrike">
              <a:solidFill>
                <a:srgbClr val="ffffff"/>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Box 3"/>
          <p:cNvSpPr/>
          <p:nvPr/>
        </p:nvSpPr>
        <p:spPr>
          <a:xfrm>
            <a:off x="826920" y="333360"/>
            <a:ext cx="7417080" cy="603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Kahootz Monster"/>
              </a:rPr>
              <a:t>“</a:t>
            </a:r>
            <a:r>
              <a:rPr b="0" lang="en-AU" sz="4000" spc="-1" strike="noStrike">
                <a:solidFill>
                  <a:srgbClr val="ffffff"/>
                </a:solidFill>
                <a:latin typeface="Kahootz Monster"/>
              </a:rPr>
              <a:t>for the genetically superior, success is easier to attain but by no means guaranteed”.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he film shows that genes alone do not guarantee a person’s success in lif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any of the film’s most genetically perfect characters are the least successfu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Consider Anton, Vincent’s brother who is twice beaten in the chicken race and gains employment in a field usually reserved for ‘invalid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Eugene, the real Jerome Morrow, who has genetically superior genes only manages a silver medal in the Olympic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Both these characters lack the drive, determination and courage for success</a:t>
            </a:r>
            <a:endParaRPr b="0" lang="en-US" sz="1800" spc="-1" strike="noStrike">
              <a:solidFill>
                <a:srgbClr val="ffffff"/>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3"/>
          <p:cNvSpPr/>
          <p:nvPr/>
        </p:nvSpPr>
        <p:spPr>
          <a:xfrm>
            <a:off x="539640" y="2997360"/>
            <a:ext cx="83534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Vincent  refuses to accept the hand dealt to hi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Vincent’s resolve, inner strength, fortitude and strength of mind and spirit are what propel him forward and enable him to succeed where others who are genetically superior to him cann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 ‘</a:t>
            </a:r>
            <a:r>
              <a:rPr b="0" lang="en-AU" sz="1800" spc="-1" strike="noStrike">
                <a:solidFill>
                  <a:srgbClr val="ffffff"/>
                </a:solidFill>
                <a:latin typeface="Arial"/>
              </a:rPr>
              <a:t>Destined’ to be an in-valid but driven to rebel, Vincent’s bravery and determination help in surpass his ‘predetermined’ potential measured at birth.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1" name="Picture 2" descr="http://cdn.mymovies.ge/backdrops/5e0/4bc90c82017a3c57fe0045e0/gattaca-original.jpg"/>
          <p:cNvPicPr/>
          <p:nvPr/>
        </p:nvPicPr>
        <p:blipFill>
          <a:blip r:embed="rId1"/>
          <a:stretch/>
        </p:blipFill>
        <p:spPr>
          <a:xfrm>
            <a:off x="5076720" y="549360"/>
            <a:ext cx="3851280" cy="2165400"/>
          </a:xfrm>
          <a:prstGeom prst="rect">
            <a:avLst/>
          </a:prstGeom>
          <a:ln w="0">
            <a:noFill/>
          </a:ln>
        </p:spPr>
      </p:pic>
      <p:sp>
        <p:nvSpPr>
          <p:cNvPr id="122" name="Rectangle 5"/>
          <p:cNvSpPr/>
          <p:nvPr/>
        </p:nvSpPr>
        <p:spPr>
          <a:xfrm>
            <a:off x="395280" y="404640"/>
            <a:ext cx="4392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Kahootz Monster"/>
              </a:rPr>
              <a:t>“</a:t>
            </a:r>
            <a:r>
              <a:rPr b="0" lang="en-AU" sz="4000" spc="-1" strike="noStrike">
                <a:solidFill>
                  <a:srgbClr val="ffffff"/>
                </a:solidFill>
                <a:latin typeface="Kahootz Monster"/>
              </a:rPr>
              <a:t>Mine is already 10,000 beats overdue.” </a:t>
            </a:r>
            <a:endParaRPr b="0" lang="en-US" sz="4000" spc="-1" strike="noStrike">
              <a:solidFill>
                <a:srgbClr val="ffffff"/>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Box 3"/>
          <p:cNvSpPr/>
          <p:nvPr/>
        </p:nvSpPr>
        <p:spPr>
          <a:xfrm>
            <a:off x="395280" y="3284640"/>
            <a:ext cx="8569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he falsity of predictive genetics is exposed through Vincent’s rise above his destiny. Vincent represents the triumph of human spirit over a supposedly ‘perfect’, genetically engineered worl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Gattaca shows that genetic discrimination, labelling people forever, is misguided and unjust. Niccol condemns the obsession with genetics as something which blinds people to realit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Arial"/>
              </a:rPr>
              <a:t>1. What does Anton’s refusal to share blood tell us about hi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Arial"/>
              </a:rPr>
              <a:t>2. What happens after this scene in the film and why is it significa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Arial"/>
              </a:rPr>
              <a:t>3. In what way are Vincent’s limitations his greatest assets?</a:t>
            </a:r>
            <a:endParaRPr b="0" lang="en-US" sz="1800" spc="-1" strike="noStrike">
              <a:solidFill>
                <a:srgbClr val="ffffff"/>
              </a:solidFill>
              <a:latin typeface="Arial"/>
            </a:endParaRPr>
          </a:p>
        </p:txBody>
      </p:sp>
      <p:sp>
        <p:nvSpPr>
          <p:cNvPr id="124" name="Rectangle 4"/>
          <p:cNvSpPr/>
          <p:nvPr/>
        </p:nvSpPr>
        <p:spPr>
          <a:xfrm>
            <a:off x="395280" y="404640"/>
            <a:ext cx="3529080" cy="28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ffffff"/>
                </a:solidFill>
                <a:latin typeface="Kahootz Monster"/>
              </a:rPr>
              <a:t>‘</a:t>
            </a:r>
            <a:r>
              <a:rPr b="0" lang="en-AU" sz="3600" spc="-1" strike="noStrike">
                <a:solidFill>
                  <a:srgbClr val="ffffff"/>
                </a:solidFill>
                <a:latin typeface="Kahootz Monster"/>
              </a:rPr>
              <a:t>This is how I did it. I never saved anything for the swim back.’</a:t>
            </a:r>
            <a:endParaRPr b="0" lang="en-US" sz="3600" spc="-1" strike="noStrike">
              <a:solidFill>
                <a:srgbClr val="ffffff"/>
              </a:solidFill>
              <a:latin typeface="Arial"/>
            </a:endParaRPr>
          </a:p>
        </p:txBody>
      </p:sp>
      <p:pic>
        <p:nvPicPr>
          <p:cNvPr id="125" name="Picture 2" descr="http://3.bp.blogspot.com/_PRJJxuTIeLw/S9nmw0mCOSI/AAAAAAAAAJc/yT70y9RxlEI/s1600/Gattaca+swimming+challenge.jpg"/>
          <p:cNvPicPr/>
          <p:nvPr/>
        </p:nvPicPr>
        <p:blipFill>
          <a:blip r:embed="rId1"/>
          <a:stretch/>
        </p:blipFill>
        <p:spPr>
          <a:xfrm>
            <a:off x="4079880" y="0"/>
            <a:ext cx="5064120" cy="302436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Box 3"/>
          <p:cNvSpPr/>
          <p:nvPr/>
        </p:nvSpPr>
        <p:spPr>
          <a:xfrm>
            <a:off x="431640" y="2060640"/>
            <a:ext cx="84614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In addition to heralding the power of the human spirit, Gattaca shows the dangers of totalitarian societies where human rights are subjugated and individuality suppress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he totalitarian nature of this society is chilling. Technology has usurped individual rights and freedom. Every citizen’s genetic blueprint is held on a central police database. Random blood or urine tests in the workplace is commonplace. While random police sweeps terrorise peop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Gattaca is critical of regimes which negate a person’s human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Arial"/>
              </a:rPr>
              <a:t>1. What other regimes can you think of that are totalitari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Arial"/>
              </a:rPr>
              <a:t>2. What evidence do we have the Gattaca takes inspiration from these societi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7" name="Picture 2" descr="See full size image">
            <a:hlinkClick r:id="rId1"/>
          </p:cNvPr>
          <p:cNvPicPr/>
          <p:nvPr/>
        </p:nvPicPr>
        <p:blipFill>
          <a:blip r:embed="rId2"/>
          <a:stretch/>
        </p:blipFill>
        <p:spPr>
          <a:xfrm>
            <a:off x="6305400" y="404640"/>
            <a:ext cx="2419560" cy="1440000"/>
          </a:xfrm>
          <a:prstGeom prst="rect">
            <a:avLst/>
          </a:prstGeom>
          <a:ln w="0">
            <a:noFill/>
          </a:ln>
        </p:spPr>
      </p:pic>
      <p:sp>
        <p:nvSpPr>
          <p:cNvPr id="128" name="Rectangle 5"/>
          <p:cNvSpPr/>
          <p:nvPr/>
        </p:nvSpPr>
        <p:spPr>
          <a:xfrm>
            <a:off x="468360" y="476280"/>
            <a:ext cx="4680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Kahootz Monster"/>
              </a:rPr>
              <a:t>“</a:t>
            </a:r>
            <a:r>
              <a:rPr b="0" lang="en-AU" sz="4000" spc="-1" strike="noStrike">
                <a:solidFill>
                  <a:srgbClr val="ffffff"/>
                </a:solidFill>
                <a:latin typeface="Kahootz Monster"/>
              </a:rPr>
              <a:t>I belonged to a new underclass”.</a:t>
            </a:r>
            <a:endParaRPr b="0" lang="en-US" sz="4000" spc="-1" strike="noStrike">
              <a:solidFill>
                <a:srgbClr val="ffffff"/>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22:19:00Z</dcterms:created>
  <dc:creator>Raymond Jeffrey Thomson</dc:creator>
  <dc:description/>
  <dc:language>en-US</dc:language>
  <cp:lastModifiedBy>WHITE, Alice(WHI)</cp:lastModifiedBy>
  <dcterms:modified xsi:type="dcterms:W3CDTF">2015-06-17T00:00:20Z</dcterms:modified>
  <cp:revision>25</cp:revision>
  <dc:subject/>
  <dc:title>Gattaca</dc:title>
</cp:coreProperties>
</file>